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6.wmf" ContentType="image/x-wmf"/>
  <Override PartName="/ppt/media/image11.wmf" ContentType="image/x-wmf"/>
  <Override PartName="/ppt/media/image7.png" ContentType="image/png"/>
  <Override PartName="/ppt/media/image15.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480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6360"/>
            <a:ext cx="543240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31280"/>
            <a:ext cx="2943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4800" y="943128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BD19-0EAB-478F-90E1-BDAA2B9CD098}"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www.imf.org/external/np/exr/facts/sba.htm" TargetMode="External"/><Relationship Id="rId2" Type="http://schemas.openxmlformats.org/officeDocument/2006/relationships/hyperlink" Target="http://www.imf.org/external/np/exr/facts/conditio.htm"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2960" y="744480"/>
            <a:ext cx="4965480" cy="3724200"/>
          </a:xfrm>
          <a:prstGeom prst="rect">
            <a:avLst/>
          </a:prstGeom>
          <a:ln w="0">
            <a:noFill/>
          </a:ln>
        </p:spPr>
      </p:sp>
      <p:sp>
        <p:nvSpPr>
          <p:cNvPr id="173" name="PlaceHolder 2"/>
          <p:cNvSpPr>
            <a:spLocks noGrp="1"/>
          </p:cNvSpPr>
          <p:nvPr>
            <p:ph type="body"/>
          </p:nvPr>
        </p:nvSpPr>
        <p:spPr>
          <a:xfrm>
            <a:off x="679320" y="4716360"/>
            <a:ext cx="54324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39D5-BBA9-4B36-AA38-C64D053638C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2960" y="744480"/>
            <a:ext cx="4965480" cy="3724200"/>
          </a:xfrm>
          <a:prstGeom prst="rect">
            <a:avLst/>
          </a:prstGeom>
          <a:ln w="0">
            <a:noFill/>
          </a:ln>
        </p:spPr>
      </p:sp>
      <p:sp>
        <p:nvSpPr>
          <p:cNvPr id="176"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1"/>
              </a:rPr>
              <a:t>Accords de confirmation</a:t>
            </a:r>
            <a:r>
              <a:rPr b="0" lang="en-GB" sz="1200" spc="-1" strike="noStrike">
                <a:solidFill>
                  <a:srgbClr val="000000"/>
                </a:solidFill>
                <a:latin typeface="Arial"/>
              </a:rPr>
              <a:t>. Traditionnellement, la majeure partie des concours non concessionnels du FMI est fournie dans le cadre d’accords de confirmation. Ces accords ont pour objectif d’aider les pays à surmonter des difficultés temporaires de balance des paiements. Les décaissements sont subordonnés à la réalisation des objectifs du programme </a:t>
            </a:r>
            <a:r>
              <a:rPr b="0" lang="en-GB" sz="1200" spc="-1" strike="noStrike" u="sng">
                <a:solidFill>
                  <a:srgbClr val="009999"/>
                </a:solidFill>
                <a:uFillTx/>
                <a:latin typeface="Arial"/>
                <a:hlinkClick r:id="rId2"/>
              </a:rPr>
              <a:t>(‘conditionnalité’)</a:t>
            </a:r>
            <a:r>
              <a:rPr b="0" lang="en-GB" sz="1200" spc="-1" strike="noStrike">
                <a:solidFill>
                  <a:srgbClr val="000000"/>
                </a:solidFill>
                <a:latin typeface="Arial"/>
              </a:rPr>
              <a:t>. Leur durée est en général de 12 à 24 mois et le remboursement normalement compris entre 3¼ et 5 ans. Les accords de confirmation peuvent être conclus à titre de précaution — le pays choisissant de ne pas effectuer de tirage sur le montant de ressources approuvé, tout en se réservant la possibilité d’y recourir si la situation se dégrade. L’accord de confirmation donne de la souplesse pour l’étalement du décaissement, qui peut intervenir en début de période, le cas échéa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gne de crédit modulable (LCM). La LCM s’adresse aux pays ayant une politique, des fondamentaux et des antécédents économiques très solides. Les accords LCM sont approuvés sur demande des État membres en faveur de pays qui satisfont à des critères de qualification prédéterminés. Ils peuvent avoir une durée d’un an ou de deux ans, avec un réexamen intérimaire pour vérifier que les critères de qualification sont toujours respectés au bout d’un an. L’accès est déterminé cas par cas, n’est pas limité, et le décaissement peut s’effectuer d’emblée en une seule fois au lieu d’être échelonné. Les décaissements ne sont pas subordonnés à la mise en œuvre de mesures spécifiques convenues entre le pays et le FMI, comme c’est le cas pour les accords de confirmation, car les pays admissibles à la LCM ont de bons antécédents dans l’application de politiques macroéconomiques adéquates. Le pays a toute latitude, soit pour tirer sur la ligne de crédit dès son approbation, soit pour considérer qu’il s’agit d’un prêt de précaution. Les modalités de remboursement de la LCM sont les mêmes que pour les accords de confi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gne de précaution et de liquidité (LPL). La LPL est destinée aux pays membres avec de solides fondamentaux qui ont de bons antécédents de mise en œuvre de politiques saines. Les pays admissibles à la LPL peuvent présenter des vulnérabilités modérées et ne pas nécessairement remplir les conditions qu’impose la LCM, mais ils ne nécessitent pas les importants ajustements de politiques économiques normalement associés aux accords de confirmation. La LPL combine des critères d’admission (similaires à ceux de la LCM) et des conditions ciblées qui visent à réduire les facteurs de vulnérabilité subsistants. Les accords au titre de la LPL ont une durée qui varie de six mois à un ou deux ans. Ils sont soumis à des révisions semi-annuelles. Lors de l’approbation d’un accord de six mois, un pays peut normalement recevoir jusqu’à 250 % de sa quote-part et, en cas de circonstances exceptionnelles où le besoin en balance des paiements est dû à des chocs exogènes, notamment à un regain de tensions régionales ou mondiales,  il peut recevoir jusqu’à 500 % de sa quote-part, et tous les accords au titre de la LPL sont plafonnés à 1000 % de la quote-part pour la durée totale de l’accord. Le pays a toute latitude, soit pour tirer sur la ligne de crédit, soit pour la considérer à titre de précaution. Les modalités de remboursement de la LPL sont les mêmes que celles des accords de confi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écanisme élargi de crédit.. Cette facilité a été créée en 1974 pour aider les pays à remédier à des difficultés de moyen à long terme de balance des paiements dues à de vastes distorsions qui nécessitent des réformes économiques fondamentales. Le recours à ce mécanisme a considérablement augmenté lors de la récente crise, ce qui témoigne de la nature structurelle des problèmes de balance des paiements de certains États membres. La durée des accords au titre du mécanisme élargi est d'habitude plus longue que celle des accords de confirmation — ne dépassant généralement pas trois ans après leur approbation. Cependant, une durée maximale allant jusqu'à quatre ans est prévue s'il existe un besoin de balance des paiements qui s'étend au-delà de la période de trois ans, si l'ajustement nécessaire pour rétablir la stabilité macroéconomique doit se faire sur une période prolongée, et s'il y a des garanties suffisantes sur la capacité et la volonté du pays membre à appliquer des réformes structurelles profondes et soutenues. Les pays doivent rembourser dans un délai de 4½ à 10 ans à compter de la date du décais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ment de financement rapide (IFR). L’instrument de financement rapide a été créé pour remplacer les anciennes politiques d’aide d’urgence et en élargir le champ. L’IFR fournit une aide de financement rapide à faible conditionnalité à tous les pays membres confrontés à un besoin urgent en matière de balance des paiements. L’accès à l’IFR est soumis à un plafond annuel de 50 % de la quote-part, et à un plafond cumulé de 100 % de la quote-part. Les concours au titre de l’aide d’urgence sont assortis des mêmes modalités que la LCM, la LPL et les accords de confirmation; ils doivent être remboursés dans un délai de 3¼ à 5 ans. </a:t>
            </a:r>
            <a:endParaRPr b="0" lang="en-US" sz="1200" spc="-1" strike="noStrike">
              <a:solidFill>
                <a:srgbClr val="000000"/>
              </a:solidFill>
              <a:latin typeface="Arial"/>
            </a:endParaRPr>
          </a:p>
        </p:txBody>
      </p:sp>
      <p:sp>
        <p:nvSpPr>
          <p:cNvPr id="177"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5963-674C-4410-A913-4034104D9E24}" type="slidenum">
              <a:rPr b="0" lang="en-GB"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2960" y="744480"/>
            <a:ext cx="4965480" cy="3724200"/>
          </a:xfrm>
          <a:prstGeom prst="rect">
            <a:avLst/>
          </a:prstGeom>
          <a:ln w="0">
            <a:noFill/>
          </a:ln>
        </p:spPr>
      </p:sp>
      <p:sp>
        <p:nvSpPr>
          <p:cNvPr id="179"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ords de confirmation. Traditionnellement, la majeure partie des concours non concessionnels du FMI est fournie dans le cadre d’accords de confirmation. Ces accords ont pour objectif d’aider les pays à surmonter des difficultés temporaires de balance des paiements. Les décaissements sont subordonnés à la réalisation des objectifs du programme (‘conditionnalité’). Leur durée est en général de 12 à 24 mois et le remboursement normalement compris entre 3¼ et 5 ans. Les accords de confirmation peuvent être conclus à titre de précaution — le pays choisissant de ne pas effectuer de tirage sur le montant de ressources approuvé, tout en se réservant la possibilité d’y recourir si la situation se dégrade. L’accord de confirmation donne de la souplesse pour l’étalement du décaissement, qui peut intervenir en début de période, le cas échéa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gne de crédit modulable (LCM). La LCM s’adresse aux pays ayant une politique, des fondamentaux et des antécédents économiques très solides. Les accords LCM sont approuvés sur demande des État membres en faveur de pays qui satisfont à des critères de qualification prédéterminés. Ils peuvent avoir une durée d’un an ou de deux ans, avec un réexamen intérimaire pour vérifier que les critères de qualification sont toujours respectés au bout d’un an. L’accès est déterminé cas par cas, n’est pas limité, et le décaissement peut s’effectuer d’emblée en une seule fois au lieu d’être échelonné. Les décaissements ne sont pas subordonnés à la mise en œuvre de mesures spécifiques convenues entre le pays et le FMI, comme c’est le cas pour les accords de confirmation, car les pays admissibles à la LCM ont de bons antécédents dans l’application de politiques macroéconomiques adéquates. Le pays a toute latitude, soit pour tirer sur la ligne de crédit dès son approbation, soit pour considérer qu’il s’agit d’un prêt de précaution. Les modalités de remboursement de la LCM sont les mêmes que pour les accords de confi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gne de précaution et de liquidité (LPL). La LPL est destinée aux pays membres avec de solides fondamentaux qui ont de bons antécédents de mise en œuvre de politiques saines. Les pays admissibles à la LPL peuvent présenter des vulnérabilités modérées et ne pas nécessairement remplir les conditions qu’impose la LCM, mais ils ne nécessitent pas les importants ajustements de politiques économiques normalement associés aux accords de confirmation. La LPL combine des critères d’admission (similaires à ceux de la LCM) et des conditions ciblées qui visent à réduire les facteurs de vulnérabilité subsistants. Les accords au titre de la LPL ont une durée qui varie de six mois à un ou deux ans. Ils sont soumis à des révisions semi-annuelles. Lors de l’approbation d’un accord de six mois, un pays peut normalement recevoir jusqu’à 250 % de sa quote-part et, en cas de circonstances exceptionnelles où le besoin en balance des paiements est dû à des chocs exogènes, notamment à un regain de tensions régionales ou mondiales, il peut recevoir jusqu’à 500 % de sa quote-part, et tous les accords au titre de la LPL sont plafonnés à 1000 % de la quote-part pour la durée totale de l’accord. Le pays a toute latitude, soit pour tirer sur la ligne de crédit, soit pour la considérer à titre de précaution. Les modalités de remboursement de la LPL sont les mêmes que celles des accords de confirma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écanisme élargi de crédit.. Cette facilité a été créée en 1974 pour aider les pays à remédier à des difficultés de moyen à long terme de balance des paiements dues à de vastes distorsions qui nécessitent des réformes économiques fondamentales. Le recours à ce mécanisme a considérablement augmenté lors de la récente crise, ce qui témoigne de la nature structurelle des problèmes de balance des paiements de certains États membres. La durée des accords au titre du mécanisme élargi est d'habitude plus longue que celle des accords de confirmation — ne dépassant généralement pas trois ans après leur approbation. Cependant, une durée maximale allant jusqu'à quatre ans est prévue s'il existe un besoin de balance des paiements qui s'étend au-delà de la période de trois ans, si l'ajustement nécessaire pour rétablir la stabilité macroéconomique doit se faire sur une période prolongée, et s'il y a des garanties suffisantes sur la capacité et la volonté du pays membre à appliquer des réformes structurelles profondes et soutenues. Les pays doivent rembourser dans un délai de 4½ à 10 ans à compter de la date du décais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ment de financement rapide (IFR). L’instrument de financement rapide a été créé pour remplacer les anciennes politiques d’aide d’urgence et en élargir le champ. L’IFR fournit une aide de financement rapide à faible conditionnalité à tous les pays membres confrontés à un besoin urgent en matière de balance des paiements. L’accès à l’IFR est soumis à un plafond annuel de 50 % de la quote-part, et à un plafond cumulé de 100 % de la quote-part. Les concours au titre de l’aide d’urgence sont assortis des mêmes modalités que la LCM, la LPL et les accords de confirmation; ils doivent être remboursés dans un délai de 3¼ à 5 ans. </a:t>
            </a:r>
            <a:endParaRPr b="0" lang="en-US" sz="1200" spc="-1" strike="noStrike">
              <a:solidFill>
                <a:srgbClr val="000000"/>
              </a:solidFill>
              <a:latin typeface="Arial"/>
            </a:endParaRPr>
          </a:p>
        </p:txBody>
      </p:sp>
      <p:sp>
        <p:nvSpPr>
          <p:cNvPr id="180"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E0C6-771F-4F5B-B5AC-332D90864CA1}" type="slidenum">
              <a:rPr b="0" lang="en-GB"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2960" y="744480"/>
            <a:ext cx="4965480" cy="3724200"/>
          </a:xfrm>
          <a:prstGeom prst="rect">
            <a:avLst/>
          </a:prstGeom>
          <a:ln w="0">
            <a:noFill/>
          </a:ln>
        </p:spPr>
      </p:sp>
      <p:sp>
        <p:nvSpPr>
          <p:cNvPr id="182" name="PlaceHolder 2"/>
          <p:cNvSpPr>
            <a:spLocks noGrp="1"/>
          </p:cNvSpPr>
          <p:nvPr>
            <p:ph type="body"/>
          </p:nvPr>
        </p:nvSpPr>
        <p:spPr>
          <a:xfrm>
            <a:off x="679320" y="4716360"/>
            <a:ext cx="54324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4FDB-9733-4133-BD0E-98BD09B41C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2960" y="744480"/>
            <a:ext cx="4965480" cy="3724200"/>
          </a:xfrm>
          <a:prstGeom prst="rect">
            <a:avLst/>
          </a:prstGeom>
          <a:ln w="0">
            <a:noFill/>
          </a:ln>
        </p:spPr>
      </p:sp>
      <p:sp>
        <p:nvSpPr>
          <p:cNvPr id="185"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cours des prêts non concessionn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xercices 2005–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illiards de D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0CA4-D9D1-4A79-86A4-15428B6CFDA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2960" y="744480"/>
            <a:ext cx="4965480" cy="3724200"/>
          </a:xfrm>
          <a:prstGeom prst="rect">
            <a:avLst/>
          </a:prstGeom>
          <a:ln w="0">
            <a:noFill/>
          </a:ln>
        </p:spPr>
      </p:sp>
      <p:sp>
        <p:nvSpPr>
          <p:cNvPr id="188"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Volume des prêts du F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 diamètre des cercles représente le volume absolu des prêts en USD</a:t>
            </a:r>
            <a:endParaRPr b="0" lang="en-US" sz="1200" spc="-1" strike="noStrike">
              <a:solidFill>
                <a:srgbClr val="000000"/>
              </a:solidFill>
              <a:latin typeface="Arial"/>
            </a:endParaRPr>
          </a:p>
        </p:txBody>
      </p:sp>
      <p:sp>
        <p:nvSpPr>
          <p:cNvPr id="189"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C89E-1869-4FF7-AA57-ADDB7B14100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2960" y="744480"/>
            <a:ext cx="4965480" cy="3724200"/>
          </a:xfrm>
          <a:prstGeom prst="rect">
            <a:avLst/>
          </a:prstGeom>
          <a:ln w="0">
            <a:noFill/>
          </a:ln>
        </p:spPr>
      </p:sp>
      <p:sp>
        <p:nvSpPr>
          <p:cNvPr id="191" name="PlaceHolder 2"/>
          <p:cNvSpPr>
            <a:spLocks noGrp="1"/>
          </p:cNvSpPr>
          <p:nvPr>
            <p:ph type="body"/>
          </p:nvPr>
        </p:nvSpPr>
        <p:spPr>
          <a:xfrm>
            <a:off x="679320" y="4716360"/>
            <a:ext cx="54324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CC6F-4F55-47A0-B332-686A73A13AA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2960" y="744480"/>
            <a:ext cx="4965480" cy="3724200"/>
          </a:xfrm>
          <a:prstGeom prst="rect">
            <a:avLst/>
          </a:prstGeom>
          <a:ln w="0">
            <a:noFill/>
          </a:ln>
        </p:spPr>
      </p:sp>
      <p:sp>
        <p:nvSpPr>
          <p:cNvPr id="194" name="PlaceHolder 2"/>
          <p:cNvSpPr>
            <a:spLocks noGrp="1"/>
          </p:cNvSpPr>
          <p:nvPr>
            <p:ph type="body"/>
          </p:nvPr>
        </p:nvSpPr>
        <p:spPr>
          <a:xfrm>
            <a:off x="679320" y="4716360"/>
            <a:ext cx="54324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B362-2268-451B-9EE9-CC05C1C86FF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2960" y="744480"/>
            <a:ext cx="4965480" cy="3724200"/>
          </a:xfrm>
          <a:prstGeom prst="rect">
            <a:avLst/>
          </a:prstGeom>
          <a:ln w="0">
            <a:noFill/>
          </a:ln>
        </p:spPr>
      </p:sp>
      <p:sp>
        <p:nvSpPr>
          <p:cNvPr id="197" name="PlaceHolder 2"/>
          <p:cNvSpPr>
            <a:spLocks noGrp="1"/>
          </p:cNvSpPr>
          <p:nvPr>
            <p:ph type="body"/>
          </p:nvPr>
        </p:nvSpPr>
        <p:spPr>
          <a:xfrm>
            <a:off x="679320" y="4716360"/>
            <a:ext cx="543240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20D1-A9D4-45F9-AF22-04B4FF8F7F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92636-3418-44AB-AC5D-33F756DBC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F3C84-D243-48FA-9913-7E73542D4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04907-D8BA-4F28-A69C-55D837A78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1E06C-CAD4-43D2-BD85-907C74B73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F6694-AFB6-4D46-B6CE-49BB060F5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85196-E7D3-4E70-B108-66C2AC7E5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98203-2D48-4322-925A-BCCB36468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B38BB-02B9-4D37-92E1-CFFF55A62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E8F3B-DD64-4566-A8B6-D00C3D73F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38A4F-8C9D-44CF-B3E6-BAD2884F4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B136E-7629-47C9-AC2A-61D0F5466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4C960-DA62-4D7D-9437-8C8201E90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60CF4-0372-42DA-9397-14B55994B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CB7C5-6931-4AE7-AFDE-AC560B79E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B363E-539A-401B-922C-21DB54797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69871-EA5E-4771-BF8F-C70E3ACC9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852D2-0F03-420F-8DD1-8697195DF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D1E8-B828-4518-BFD5-7A6695E94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323C8-5F95-4C92-BC58-701EE53D9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A19B4-0C6C-4B5C-84D7-C85D9BF37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F5C14-7B84-4051-9CE2-73563F146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65961-91F6-44D4-82B8-29C17B7B7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C3E6-4FF6-47CE-8F06-8A9822C54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C274D-77E5-4CA3-AC5E-73ADFBC0F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03C3-DFB4-4EC7-9D48-3D1061B3719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EBF3-7A46-4FE6-B075-987C56EA865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www.imf.org/external/np/exr/facts/surv.htm" TargetMode="External"/><Relationship Id="rId2" Type="http://schemas.openxmlformats.org/officeDocument/2006/relationships/hyperlink" Target="https://www.imf.org/external/np/exr/facts/tech.htm" TargetMode="External"/><Relationship Id="rId3" Type="http://schemas.openxmlformats.org/officeDocument/2006/relationships/hyperlink" Target="https://www.imf.org/external/np/exr/facts/howlend.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mf.org/external/np/sec/memdir/eds.aspx" TargetMode="External"/><Relationship Id="rId2" Type="http://schemas.openxmlformats.org/officeDocument/2006/relationships/hyperlink" Target="http://www.imf.org/external/np/loi/mempub_new.as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mf.org/cgi-shl/create_x.pl?bur" TargetMode="External"/><Relationship Id="rId2" Type="http://schemas.openxmlformats.org/officeDocument/2006/relationships/hyperlink" Target="http://www.imf.org/external/np/fin/rates/sdr_ir.cfm" TargetMode="External"/><Relationship Id="rId3" Type="http://schemas.openxmlformats.org/officeDocument/2006/relationships/hyperlink" Target="http://www.imf.org/external/np/exr/facts/quotas.htm"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imf.org/external/np/exr/facts/glance.htm" TargetMode="External"/><Relationship Id="rId2" Type="http://schemas.openxmlformats.org/officeDocument/2006/relationships/hyperlink" Target="http://www.worldbank.or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324000" y="4221000"/>
            <a:ext cx="8532720" cy="1152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L'architecture financière international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C7B0-C74F-43E4-9A6D-53AC24FCEB0A}"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ZoneTexte 1"/>
          <p:cNvSpPr/>
          <p:nvPr/>
        </p:nvSpPr>
        <p:spPr>
          <a:xfrm>
            <a:off x="108000" y="659772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glance.htm</a:t>
            </a:r>
            <a:endParaRPr b="0" lang="en-US" sz="1400" spc="-1" strike="noStrike">
              <a:solidFill>
                <a:srgbClr val="0f5494"/>
              </a:solidFill>
              <a:latin typeface="Verdana"/>
            </a:endParaRPr>
          </a:p>
        </p:txBody>
      </p:sp>
      <p:sp>
        <p:nvSpPr>
          <p:cNvPr id="119" name="Rectangle 2"/>
          <p:cNvSpPr/>
          <p:nvPr/>
        </p:nvSpPr>
        <p:spPr>
          <a:xfrm>
            <a:off x="539640" y="1268280"/>
            <a:ext cx="813600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Verdana"/>
              </a:rPr>
              <a:t>Le FMI en quelques chiffre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Nombre de pays membres : 188 pay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Siège : Washington, États-Uni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Conseil d’administration : 24 administrateurs représentant des pays et groupes de pay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Effectifs : environ 2.600, originaires de 147 pay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Total des quotes-parts : 362 milliards de dollars (au 13 mars 2015)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Complément de ressources promis ou engagé : 885 milliards de dollars</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Montants engagés dans le cadre des accords de prêt en vigueur (au 13 mars 2015) : 163 milliards de dollars, dont 137 milliards non tirés (voir tableau)</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Principaux emprunteurs (encours au 13 mars 2015): Portugal, Grèce, Irlande et Ukraine</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Crédits de précaution les plus importants (montants convenus au 13 mars 2015): Mexique, Pologne, Colombie, Maroc</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Consultations au titre de la surveillance: 122 consultations en 2012, 122 en 2013 et 129 en 2014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Assistance technique: 274 années-personne pour l’exercice 2013 et 285 pour l’exercice 2014</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Verdana"/>
              </a:rPr>
              <a:t>Objectif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promouvoir la coopération monétaire internationale;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faciliter l’expansion et la croissance équilibrées du commerce mondial;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promouvoir la stabilité des change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aider à établir un système multilatéral de paiements; </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Verdana"/>
              </a:rPr>
              <a:t>mettre ses ressources (moyennant des garanties adéquates) à la disposition des pays confrontés à des difficultés de balance des paiements. </a:t>
            </a:r>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1628280"/>
            <a:ext cx="8229600" cy="4389480"/>
          </a:xfrm>
          <a:prstGeom prst="rect">
            <a:avLst/>
          </a:prstGeom>
          <a:noFill/>
          <a:ln w="0">
            <a:noFill/>
          </a:ln>
        </p:spPr>
        <p:txBody>
          <a:bodyPr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 FMI promeut la coopération monétaire internationale et fournit des </a:t>
            </a:r>
            <a:r>
              <a:rPr b="0" lang="fr-FR" sz="2000" spc="-1" strike="noStrike" u="sng">
                <a:solidFill>
                  <a:srgbClr val="3333cc"/>
                </a:solidFill>
                <a:uFillTx/>
                <a:latin typeface="Verdana"/>
                <a:hlinkClick r:id="rId1"/>
              </a:rPr>
              <a:t>conseils politiques</a:t>
            </a:r>
            <a:r>
              <a:rPr b="0" lang="fr-FR" sz="2000" spc="-1" strike="noStrike">
                <a:solidFill>
                  <a:srgbClr val="0f5494"/>
                </a:solidFill>
                <a:latin typeface="Verdana"/>
              </a:rPr>
              <a:t> et une </a:t>
            </a:r>
            <a:r>
              <a:rPr b="0" lang="fr-FR" sz="2000" spc="-1" strike="noStrike" u="sng">
                <a:solidFill>
                  <a:srgbClr val="3333cc"/>
                </a:solidFill>
                <a:uFillTx/>
                <a:latin typeface="Verdana"/>
                <a:hlinkClick r:id="rId2"/>
              </a:rPr>
              <a:t>assistance technique</a:t>
            </a:r>
            <a:r>
              <a:rPr b="0" lang="fr-FR" sz="2000" spc="-1" strike="noStrike">
                <a:solidFill>
                  <a:srgbClr val="0f5494"/>
                </a:solidFill>
                <a:latin typeface="Verdana"/>
              </a:rPr>
              <a:t> pour aider les pays à constituer et à maintenir des économies fortes. </a:t>
            </a: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En outre, le FMI </a:t>
            </a:r>
            <a:r>
              <a:rPr b="0" lang="fr-FR" sz="2000" spc="-1" strike="noStrike" u="sng">
                <a:solidFill>
                  <a:srgbClr val="3333cc"/>
                </a:solidFill>
                <a:uFillTx/>
                <a:latin typeface="Verdana"/>
                <a:hlinkClick r:id="rId3"/>
              </a:rPr>
              <a:t>émet des prêts</a:t>
            </a:r>
            <a:r>
              <a:rPr b="0" lang="fr-FR" sz="2000" spc="-1" strike="noStrike">
                <a:solidFill>
                  <a:srgbClr val="0f5494"/>
                </a:solidFill>
                <a:latin typeface="Verdana"/>
              </a:rPr>
              <a:t> et aide les pays à concevoir des programmes politiques pour résoudre les </a:t>
            </a:r>
            <a:r>
              <a:rPr b="0" lang="fr-FR" sz="2000" spc="-1" strike="noStrike" u="sng">
                <a:solidFill>
                  <a:srgbClr val="0f5494"/>
                </a:solidFill>
                <a:uFillTx/>
                <a:latin typeface="Verdana"/>
              </a:rPr>
              <a:t>problèmes de balance des paiements</a:t>
            </a:r>
            <a:r>
              <a:rPr b="0" lang="fr-FR" sz="2000" spc="-1" strike="noStrike">
                <a:solidFill>
                  <a:srgbClr val="0f5494"/>
                </a:solidFill>
                <a:latin typeface="Verdana"/>
              </a:rPr>
              <a:t> quand il est impossible d'obtenir un financement suffisant à des conditions abordables pour satisfaire aux paiements internationaux nets. </a:t>
            </a: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s prêts du FMI sont à court et à moyen terme, et principalement financés par l'ensemble des cotisations que fournissent ses membres selon un système de quote-parts</a:t>
            </a:r>
            <a:r>
              <a:rPr b="0" lang="fr-FR" sz="2400" spc="-1" strike="noStrike">
                <a:solidFill>
                  <a:srgbClr val="0f5494"/>
                </a:solidFill>
                <a:latin typeface="Verdana"/>
              </a:rPr>
              <a:t>. </a:t>
            </a:r>
            <a:endParaRPr b="0" i="1" lang="en-US" sz="2400" spc="-1" strike="noStrike">
              <a:solidFill>
                <a:srgbClr val="0f5494"/>
              </a:solidFill>
              <a:latin typeface="Verdana"/>
            </a:endParaRPr>
          </a:p>
        </p:txBody>
      </p:sp>
      <p:sp>
        <p:nvSpPr>
          <p:cNvPr id="121"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Le mandat du FMI</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8520" y="1643040"/>
            <a:ext cx="8856720" cy="484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 pays membre peut demander l'assistance financière du FMI en cas de besoin (réel ou potentiel) pour la balance des paiemen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Un prêt du FMI fournit une bulle d'air qui facilite les politiques d'ajustement et les réformes que doit entreprendre le pays pour redresser sa balance des paiements et rétablir les conditions propres à une croissance économique forte.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En règle générale, le FMI met ses ressources à la disposition d’un pays membre, à sa demande, dans le cadre d’un "accord" de prêt, qui, selon l’instrument utilisé, peut stipuler des politiques et mesures économiques que le pays en question convient d’appliquer pour résoudre son problème de balance des paiemen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3"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24" name="PlaceHolder 1"/>
          <p:cNvSpPr>
            <a:spLocks noGrp="1"/>
          </p:cNvSpPr>
          <p:nvPr>
            <p:ph type="title"/>
          </p:nvPr>
        </p:nvSpPr>
        <p:spPr>
          <a:xfrm>
            <a:off x="84240" y="404640"/>
            <a:ext cx="3960720" cy="43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Verdana"/>
              </a:rPr>
              <a:t>Le processus d'octroi de prêt par le FMI</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7280" y="1187280"/>
            <a:ext cx="8856720" cy="5121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 programme de politique économique qui sous-tend un accord est formulé par le pays en consultation avec l’institution, puis, dans la plupart des cas, soumis au </a:t>
            </a:r>
            <a:r>
              <a:rPr b="0" lang="fr-FR" sz="2000" spc="-1" strike="noStrike" u="sng">
                <a:solidFill>
                  <a:srgbClr val="3333cc"/>
                </a:solidFill>
                <a:uFillTx/>
                <a:latin typeface="Verdana"/>
                <a:hlinkClick r:id="rId1"/>
              </a:rPr>
              <a:t>Conseil d’administration</a:t>
            </a:r>
            <a:r>
              <a:rPr b="0" lang="fr-FR" sz="2000" spc="-1" strike="noStrike">
                <a:solidFill>
                  <a:srgbClr val="0f5494"/>
                </a:solidFill>
                <a:latin typeface="Verdana"/>
              </a:rPr>
              <a:t> dans une </a:t>
            </a:r>
            <a:r>
              <a:rPr b="0" lang="fr-FR" sz="2000" spc="-1" strike="noStrike" u="sng">
                <a:solidFill>
                  <a:srgbClr val="3333cc"/>
                </a:solidFill>
                <a:uFillTx/>
                <a:latin typeface="Verdana"/>
                <a:hlinkClick r:id="rId2"/>
              </a:rPr>
              <a:t>lettre d’intention</a:t>
            </a:r>
            <a:r>
              <a:rPr b="0" lang="fr-FR" sz="2000" spc="-1" strike="noStrike">
                <a:solidFill>
                  <a:srgbClr val="0f5494"/>
                </a:solidFill>
                <a:latin typeface="Verdana"/>
              </a:rPr>
              <a:t>. Une fois l’accord approuvé par le Conseil d’administration, les ressources du FMI sont habituellement mises à la disposition du pays par tranches successives au fur et à mesure de l’exécution du programme.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ertains accords permettent aux pays dont les résultats sont solides d’avoir immédiatement accès aux ressources financières du FMI en un seul décaissement, sans qu’ils soient tenus aux politiques préalablement convenues.</a:t>
            </a:r>
            <a:endParaRPr b="0" i="1" lang="en-US" sz="2000" spc="-1" strike="noStrike">
              <a:solidFill>
                <a:srgbClr val="0f5494"/>
              </a:solidFill>
              <a:latin typeface="Verdana"/>
            </a:endParaRPr>
          </a:p>
        </p:txBody>
      </p:sp>
      <p:sp>
        <p:nvSpPr>
          <p:cNvPr id="126"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27" name="1 Başlık"/>
          <p:cNvSpPr/>
          <p:nvPr/>
        </p:nvSpPr>
        <p:spPr>
          <a:xfrm>
            <a:off x="84240" y="404640"/>
            <a:ext cx="3960720" cy="432000"/>
          </a:xfrm>
          <a:prstGeom prst="rect">
            <a:avLst/>
          </a:prstGeom>
          <a:noFill/>
          <a:ln w="0">
            <a:noFill/>
          </a:ln>
        </p:spPr>
        <p:style>
          <a:lnRef idx="0"/>
          <a:fillRef idx="0"/>
          <a:effectRef idx="0"/>
          <a:fontRef idx="minor"/>
        </p:style>
        <p:txBody>
          <a:bodyPr lIns="90000" rIns="90000" tIns="46800" bIns="46800" anchor="ctr">
            <a:normAutofit fontScale="78000"/>
          </a:bodyPr>
          <a:p>
            <a:pPr marL="27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Verdana"/>
              </a:rPr>
              <a:t>Le processus d'octroi de prêt par le FMI</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85840" y="1479240"/>
            <a:ext cx="8856720" cy="4824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s prêts non concessionnels sont accordés principalement par le biais des accords de confirmation, de la ligne de crédit modulable (LCM), de la ligne de précaution et de liquidité (LPL) et du mécanisme élargi de crédit (surtout utile pour les besoins de moyen à long terme).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 FMI peut apporter une aide d’urgence aux pays membres confrontés à des besoins urgents de balance des paiements grâce à l’instrument de financement rapide (IFR).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Tous les mécanismes de financement non concessionnel sont assortis du taux d’intérêt du FMI (le "taux de commission") qui est fondé sur le marché. Les prêts de montant élevé (au-dessus d’un certain seuil) sont assortis d’une commission additionnelle. </a:t>
            </a:r>
            <a:endParaRPr b="0" i="1" lang="en-US" sz="2000" spc="-1" strike="noStrike">
              <a:solidFill>
                <a:srgbClr val="0f5494"/>
              </a:solidFill>
              <a:latin typeface="Verdana"/>
            </a:endParaRPr>
          </a:p>
        </p:txBody>
      </p:sp>
      <p:sp>
        <p:nvSpPr>
          <p:cNvPr id="129"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30"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non concessionnel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7280" y="1484280"/>
            <a:ext cx="8856720" cy="511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 </a:t>
            </a:r>
            <a:r>
              <a:rPr b="0" lang="en-GB" sz="2000" spc="-1" strike="noStrike" u="sng">
                <a:solidFill>
                  <a:srgbClr val="3333cc"/>
                </a:solidFill>
                <a:uFillTx/>
                <a:latin typeface="Verdana"/>
                <a:hlinkClick r:id="rId1"/>
              </a:rPr>
              <a:t>taux de commission</a:t>
            </a:r>
            <a:r>
              <a:rPr b="0" lang="en-GB" sz="2000" spc="-1" strike="noStrike">
                <a:solidFill>
                  <a:srgbClr val="0f5494"/>
                </a:solidFill>
                <a:latin typeface="Verdana"/>
              </a:rPr>
              <a:t> est basé sur le </a:t>
            </a:r>
            <a:r>
              <a:rPr b="0" lang="en-GB" sz="2000" spc="-1" strike="noStrike" u="sng">
                <a:solidFill>
                  <a:srgbClr val="3333cc"/>
                </a:solidFill>
                <a:uFillTx/>
                <a:latin typeface="Verdana"/>
                <a:hlinkClick r:id="rId2"/>
              </a:rPr>
              <a:t>taux d’intérêt du DTS</a:t>
            </a:r>
            <a:r>
              <a:rPr b="0" lang="en-GB" sz="2000" spc="-1" strike="noStrike">
                <a:solidFill>
                  <a:srgbClr val="0f5494"/>
                </a:solidFill>
                <a:latin typeface="Verdana"/>
              </a:rPr>
              <a:t>, qui est recalculé chaque semaine pour tenir compte des fluctuations à court terme des taux d’intérêt sur les principaux marchés monétaires internationaux.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 montant maximum qu’un pays peut emprunter au FMI (la "limite d’accès") varie en fonction du type de prêt accordé, mais, en général, ce montant représente un multiple de la </a:t>
            </a:r>
            <a:r>
              <a:rPr b="0" lang="en-GB" sz="2000" spc="-1" strike="noStrike" u="sng">
                <a:solidFill>
                  <a:srgbClr val="3333cc"/>
                </a:solidFill>
                <a:uFillTx/>
                <a:latin typeface="Verdana"/>
                <a:hlinkClick r:id="rId3"/>
              </a:rPr>
              <a:t>quote-part</a:t>
            </a:r>
            <a:r>
              <a:rPr b="0" lang="en-GB" sz="2000" spc="-1" strike="noStrike">
                <a:solidFill>
                  <a:srgbClr val="0f5494"/>
                </a:solidFill>
                <a:latin typeface="Verdana"/>
              </a:rPr>
              <a:t>. Ces limites peuvent être dépassées dans des cas exceptionnel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accès aux accords de confirmation, à la ligne de crédit modulable et à la facilité élargie de crédit n’a pas de plafond prédéterminé.</a:t>
            </a:r>
            <a:endParaRPr b="0" i="1" lang="en-US" sz="2000" spc="-1" strike="noStrike">
              <a:solidFill>
                <a:srgbClr val="0f5494"/>
              </a:solidFill>
              <a:latin typeface="Verdana"/>
            </a:endParaRPr>
          </a:p>
        </p:txBody>
      </p:sp>
      <p:sp>
        <p:nvSpPr>
          <p:cNvPr id="132"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3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non concessionnel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ZoneTexte 4"/>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35"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non concessionnels</a:t>
            </a:r>
            <a:endParaRPr b="0" lang="en-US" sz="1800" spc="-1" strike="noStrike">
              <a:solidFill>
                <a:srgbClr val="0f5494"/>
              </a:solidFill>
              <a:latin typeface="Verdana"/>
            </a:endParaRPr>
          </a:p>
        </p:txBody>
      </p:sp>
      <p:pic>
        <p:nvPicPr>
          <p:cNvPr id="136" name="Picture 5" descr=""/>
          <p:cNvPicPr/>
          <p:nvPr/>
        </p:nvPicPr>
        <p:blipFill>
          <a:blip r:embed="rId1"/>
          <a:stretch/>
        </p:blipFill>
        <p:spPr>
          <a:xfrm>
            <a:off x="1619280" y="1817640"/>
            <a:ext cx="5689440" cy="398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1160" y="6410160"/>
            <a:ext cx="755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http://www.imf.org/external/pubs/ft/ar/2014/eng/pdf/ar14_eng.pdf</a:t>
            </a:r>
            <a:endParaRPr b="0" lang="en-US" sz="1400" spc="-1" strike="noStrike">
              <a:solidFill>
                <a:srgbClr val="0f5494"/>
              </a:solidFill>
              <a:latin typeface="Verdana"/>
            </a:endParaRPr>
          </a:p>
        </p:txBody>
      </p:sp>
      <p:sp>
        <p:nvSpPr>
          <p:cNvPr id="138"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non concessionnels</a:t>
            </a:r>
            <a:endParaRPr b="0" lang="en-US" sz="1800" spc="-1" strike="noStrike">
              <a:solidFill>
                <a:srgbClr val="0f5494"/>
              </a:solidFill>
              <a:latin typeface="Verdana"/>
            </a:endParaRPr>
          </a:p>
        </p:txBody>
      </p:sp>
      <p:pic>
        <p:nvPicPr>
          <p:cNvPr id="139" name="Picture 5" descr=""/>
          <p:cNvPicPr/>
          <p:nvPr/>
        </p:nvPicPr>
        <p:blipFill>
          <a:blip r:embed="rId1"/>
          <a:stretch/>
        </p:blipFill>
        <p:spPr>
          <a:xfrm>
            <a:off x="2340000" y="1433520"/>
            <a:ext cx="5025960" cy="451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Espace réservé du contenu 4" descr=""/>
          <p:cNvPicPr/>
          <p:nvPr/>
        </p:nvPicPr>
        <p:blipFill>
          <a:blip r:embed="rId1"/>
          <a:srcRect l="-15488" t="0" r="-15488" b="0"/>
          <a:stretch/>
        </p:blipFill>
        <p:spPr>
          <a:xfrm>
            <a:off x="457200" y="1125360"/>
            <a:ext cx="8229600" cy="5000760"/>
          </a:xfrm>
          <a:prstGeom prst="rect">
            <a:avLst/>
          </a:prstGeom>
          <a:ln w="0">
            <a:noFill/>
          </a:ln>
        </p:spPr>
      </p:pic>
      <p:sp>
        <p:nvSpPr>
          <p:cNvPr id="141" name="Rectangle 5"/>
          <p:cNvSpPr/>
          <p:nvPr/>
        </p:nvSpPr>
        <p:spPr>
          <a:xfrm>
            <a:off x="0" y="6126120"/>
            <a:ext cx="9023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bruegel.org/publications/publication-detail/publication/779-eu-imf-assistance-to-euro-area-countries-an-early-assessment/</a:t>
            </a:r>
            <a:endParaRPr b="0" lang="en-US" sz="1400" spc="-1" strike="noStrike">
              <a:solidFill>
                <a:srgbClr val="0f5494"/>
              </a:solidFill>
              <a:latin typeface="Verdana"/>
            </a:endParaRPr>
          </a:p>
        </p:txBody>
      </p:sp>
      <p:sp>
        <p:nvSpPr>
          <p:cNvPr id="142"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non concessionnel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ZoneTexte 4"/>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 http://www.imf.org/external/np/exr/facts/howlend.htm</a:t>
            </a:r>
            <a:endParaRPr b="0" lang="en-US" sz="1400" spc="-1" strike="noStrike">
              <a:solidFill>
                <a:srgbClr val="0f5494"/>
              </a:solidFill>
              <a:latin typeface="Verdana"/>
            </a:endParaRPr>
          </a:p>
        </p:txBody>
      </p:sp>
      <p:sp>
        <p:nvSpPr>
          <p:cNvPr id="144"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Prêts concessionnels</a:t>
            </a:r>
            <a:endParaRPr b="0" lang="en-US" sz="1800" spc="-1" strike="noStrike">
              <a:solidFill>
                <a:srgbClr val="0f5494"/>
              </a:solidFill>
              <a:latin typeface="Verdana"/>
            </a:endParaRPr>
          </a:p>
        </p:txBody>
      </p:sp>
      <p:pic>
        <p:nvPicPr>
          <p:cNvPr id="145" name="Picture 5" descr=""/>
          <p:cNvPicPr/>
          <p:nvPr/>
        </p:nvPicPr>
        <p:blipFill>
          <a:blip r:embed="rId1"/>
          <a:stretch/>
        </p:blipFill>
        <p:spPr>
          <a:xfrm>
            <a:off x="2484360" y="1557360"/>
            <a:ext cx="4535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Bref historique du système financier mondi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s institutions de Bretton Wood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 Fonds monétaire internation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a Banque mondiale</a:t>
            </a: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2B7B-35A9-4BCF-B1B6-11226F27CD2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365040" y="54000"/>
            <a:ext cx="8302680" cy="681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11160" y="6410160"/>
            <a:ext cx="755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http://www.imf.org/external/pubs/ft/ar/2014/eng/pdf/ar14_eng.pdf</a:t>
            </a:r>
            <a:endParaRPr b="0" lang="en-US" sz="1400" spc="-1" strike="noStrike">
              <a:solidFill>
                <a:srgbClr val="0f5494"/>
              </a:solidFill>
              <a:latin typeface="Verdana"/>
            </a:endParaRPr>
          </a:p>
        </p:txBody>
      </p:sp>
      <p:pic>
        <p:nvPicPr>
          <p:cNvPr id="148" name="Picture 4" descr=""/>
          <p:cNvPicPr/>
          <p:nvPr/>
        </p:nvPicPr>
        <p:blipFill>
          <a:blip r:embed="rId1"/>
          <a:stretch/>
        </p:blipFill>
        <p:spPr>
          <a:xfrm>
            <a:off x="971640" y="1225440"/>
            <a:ext cx="7680240" cy="486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341360"/>
            <a:ext cx="8229600" cy="4680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La base du capital du FMI est constituée de </a:t>
            </a:r>
            <a:r>
              <a:rPr b="1" i="1" lang="en-GB" sz="2400" spc="-1" strike="noStrike">
                <a:solidFill>
                  <a:srgbClr val="0f5494"/>
                </a:solidFill>
                <a:latin typeface="Verdana"/>
              </a:rPr>
              <a:t>quote-parts</a:t>
            </a:r>
            <a:r>
              <a:rPr b="0" i="1" lang="en-GB" sz="2400" spc="-1" strike="noStrike">
                <a:solidFill>
                  <a:srgbClr val="0f5494"/>
                </a:solidFill>
                <a:latin typeface="Verdana"/>
              </a:rPr>
              <a:t> : les cotisations financières des pays membres. Le total des quote-parts atteint près de 300 milliards USD.</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Les quote-parts sont largement déterminées par la </a:t>
            </a:r>
            <a:r>
              <a:rPr b="1" i="1" lang="en-GB" sz="2400" spc="-1" strike="noStrike">
                <a:solidFill>
                  <a:srgbClr val="0f5494"/>
                </a:solidFill>
                <a:latin typeface="Verdana"/>
              </a:rPr>
              <a:t>position économique </a:t>
            </a:r>
            <a:r>
              <a:rPr b="0" i="1" lang="en-GB" sz="2400" spc="-1" strike="noStrike">
                <a:solidFill>
                  <a:srgbClr val="0f5494"/>
                </a:solidFill>
                <a:latin typeface="Verdana"/>
              </a:rPr>
              <a:t>par rapport aux autres pays, et sont révisés régulièrement.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La quote-part du pays détermine son </a:t>
            </a:r>
            <a:r>
              <a:rPr b="1" i="1" lang="en-GB" sz="2400" spc="-1" strike="noStrike">
                <a:solidFill>
                  <a:srgbClr val="0f5494"/>
                </a:solidFill>
                <a:latin typeface="Verdana"/>
              </a:rPr>
              <a:t>droit de vote </a:t>
            </a:r>
            <a:r>
              <a:rPr b="0" i="1" lang="en-GB" sz="2400" spc="-1" strike="noStrike">
                <a:solidFill>
                  <a:srgbClr val="0f5494"/>
                </a:solidFill>
                <a:latin typeface="Verdana"/>
              </a:rPr>
              <a:t>et son</a:t>
            </a:r>
            <a:r>
              <a:rPr b="1" i="1" lang="en-GB" sz="2400" spc="-1" strike="noStrike">
                <a:solidFill>
                  <a:srgbClr val="0f5494"/>
                </a:solidFill>
                <a:latin typeface="Verdana"/>
              </a:rPr>
              <a:t> accès au financement</a:t>
            </a:r>
            <a:r>
              <a:rPr b="0" i="1" lang="en-GB" sz="2400" spc="-1" strike="noStrike">
                <a:solidFill>
                  <a:srgbClr val="0f5494"/>
                </a:solidFill>
                <a:latin typeface="Verdana"/>
              </a:rPr>
              <a:t>.</a:t>
            </a:r>
            <a:endParaRPr b="0" i="1" lang="en-US" sz="2400" spc="-1" strike="noStrike">
              <a:solidFill>
                <a:srgbClr val="0f5494"/>
              </a:solidFill>
              <a:latin typeface="Verdana"/>
            </a:endParaRPr>
          </a:p>
        </p:txBody>
      </p:sp>
      <p:sp>
        <p:nvSpPr>
          <p:cNvPr id="150"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000"/>
                </a:solidFill>
                <a:latin typeface="Verdana"/>
              </a:rPr>
              <a:t>Qui gouverne le FMI ?</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Espace réservé du contenu 3" descr=""/>
          <p:cNvPicPr/>
          <p:nvPr/>
        </p:nvPicPr>
        <p:blipFill>
          <a:blip r:embed="rId1"/>
          <a:srcRect l="0" t="5111" r="0" b="5111"/>
          <a:stretch/>
        </p:blipFill>
        <p:spPr>
          <a:xfrm>
            <a:off x="457200" y="1600200"/>
            <a:ext cx="8229600" cy="4525920"/>
          </a:xfrm>
          <a:prstGeom prst="rect">
            <a:avLst/>
          </a:prstGeom>
          <a:ln w="0">
            <a:noFill/>
          </a:ln>
        </p:spPr>
      </p:pic>
      <p:sp>
        <p:nvSpPr>
          <p:cNvPr id="152"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000"/>
                </a:solidFill>
                <a:latin typeface="Verdana"/>
              </a:rPr>
              <a:t>Qui gouverne le FMI ?</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Espace réservé du contenu 4" descr=""/>
          <p:cNvPicPr/>
          <p:nvPr/>
        </p:nvPicPr>
        <p:blipFill>
          <a:blip r:embed="rId1"/>
          <a:srcRect l="2935" t="0" r="2935" b="0"/>
          <a:stretch/>
        </p:blipFill>
        <p:spPr>
          <a:xfrm>
            <a:off x="237960" y="1314360"/>
            <a:ext cx="8906040" cy="4525920"/>
          </a:xfrm>
          <a:prstGeom prst="rect">
            <a:avLst/>
          </a:prstGeom>
          <a:ln w="0">
            <a:noFill/>
          </a:ln>
        </p:spPr>
      </p:pic>
      <p:sp>
        <p:nvSpPr>
          <p:cNvPr id="154"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000"/>
                </a:solidFill>
                <a:latin typeface="Verdana"/>
              </a:rPr>
              <a:t>Qui gouverne le FMI ?</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76280"/>
            <a:ext cx="4321080" cy="43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000"/>
                </a:solidFill>
                <a:latin typeface="Verdana"/>
              </a:rPr>
              <a:t>Qui gouverne le FMI ?</a:t>
            </a:r>
            <a:endParaRPr b="1" lang="en-US" sz="2000" spc="-1" strike="noStrike">
              <a:solidFill>
                <a:srgbClr val="0f5494"/>
              </a:solidFill>
              <a:latin typeface="Verdana"/>
            </a:endParaRPr>
          </a:p>
        </p:txBody>
      </p:sp>
      <p:sp>
        <p:nvSpPr>
          <p:cNvPr id="156" name=""/>
          <p:cNvSpPr txBox="1"/>
          <p:nvPr/>
        </p:nvSpPr>
        <p:spPr>
          <a:xfrm>
            <a:off x="457200" y="1699920"/>
            <a:ext cx="8229600" cy="43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Le FMI est gouverné par les pays membres, via son Conseil des gouverneurs (1 gouverneur par pays). Il se réunit annuell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Un sous-ensemble de gouverneurs (Comité monétaire et financier international, CMFI) aide le Conseil des gouverneurs. Le CMFI se réunit 2 fois par a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15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Bref historique du système financier mondi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s institutions de Bretton Wood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 Fonds monétaire internation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La Banque mondiale</a:t>
            </a:r>
            <a:endParaRPr b="0" i="1" lang="en-US" sz="2400" spc="-1" strike="noStrike">
              <a:solidFill>
                <a:srgbClr val="0f5494"/>
              </a:solidFill>
              <a:latin typeface="Verdana"/>
            </a:endParaRPr>
          </a:p>
        </p:txBody>
      </p:sp>
      <p:sp>
        <p:nvSpPr>
          <p:cNvPr id="15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DF85-C246-4B7E-90C9-DF3332232CA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fld id="{C9EB8399-7A95-414F-8E10-1A7E6ADC76A9}" type="slidenum">
              <a:rPr b="1" lang="en-GB" sz="1400" spc="-1" strike="noStrike">
                <a:solidFill>
                  <a:srgbClr val="ffffff"/>
                </a:solidFill>
                <a:latin typeface="Arial"/>
              </a:rPr>
              <a:t>&lt;number&gt;</a:t>
            </a:fld>
            <a:endParaRPr b="0" lang="en-US" sz="1400" spc="-1" strike="noStrike">
              <a:solidFill>
                <a:srgbClr val="0f5494"/>
              </a:solidFill>
              <a:latin typeface="Verdana"/>
            </a:endParaRPr>
          </a:p>
        </p:txBody>
      </p:sp>
      <p:sp>
        <p:nvSpPr>
          <p:cNvPr id="161" name="PlaceHolder 1"/>
          <p:cNvSpPr>
            <a:spLocks noGrp="1"/>
          </p:cNvSpPr>
          <p:nvPr>
            <p:ph/>
          </p:nvPr>
        </p:nvSpPr>
        <p:spPr>
          <a:xfrm>
            <a:off x="457200" y="1412640"/>
            <a:ext cx="8229600" cy="4608360"/>
          </a:xfrm>
          <a:prstGeom prst="rect">
            <a:avLst/>
          </a:prstGeom>
          <a:noFill/>
          <a:ln w="0">
            <a:noFill/>
          </a:ln>
        </p:spPr>
        <p:txBody>
          <a:bodyPr anchor="t">
            <a:normAutofit fontScale="99000"/>
          </a:bodyPr>
          <a:p>
            <a:pPr marL="339480" indent="-3394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Arial"/>
                <a:ea typeface="Arial"/>
              </a:rPr>
              <a:t>Fondée en 1944 sous le nom de Banque Internationale pour la Reconstruction et le Développement (BIRD)</a:t>
            </a:r>
            <a:endParaRPr b="0" i="1" lang="en-US" sz="2400" spc="-1" strike="noStrike">
              <a:solidFill>
                <a:srgbClr val="0f5494"/>
              </a:solidFill>
              <a:latin typeface="Verdana"/>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Arial"/>
                <a:ea typeface="Arial"/>
              </a:rPr>
              <a:t>La BIRD et l'Association internationale de développement (IDA) constituent la Banque mondiale</a:t>
            </a:r>
            <a:endParaRPr b="0" i="1" lang="en-US" sz="2400" spc="-1" strike="noStrike">
              <a:solidFill>
                <a:srgbClr val="0f5494"/>
              </a:solidFill>
              <a:latin typeface="Verdana"/>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Arial"/>
                <a:ea typeface="Arial"/>
              </a:rPr>
              <a:t>Elle a les mêmes membres et une structure similaire à celle du FMI</a:t>
            </a:r>
            <a:endParaRPr b="0" i="1" lang="en-US" sz="2400" spc="-1" strike="noStrike">
              <a:solidFill>
                <a:srgbClr val="0f5494"/>
              </a:solidFill>
              <a:latin typeface="Verdana"/>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Arial"/>
                <a:ea typeface="Arial"/>
              </a:rPr>
              <a:t>Les droits de vote des membres sont proportionnels au nombre de parts qu'ils détiennent </a:t>
            </a:r>
            <a:endParaRPr b="0" i="1" lang="en-US" sz="2400" spc="-1" strike="noStrike">
              <a:solidFill>
                <a:srgbClr val="0f5494"/>
              </a:solidFill>
              <a:latin typeface="Verdana"/>
            </a:endParaRPr>
          </a:p>
        </p:txBody>
      </p:sp>
    </p:spTree>
  </p:cSld>
  <p:transition spd="med">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68360" y="1267920"/>
            <a:ext cx="8229600" cy="5473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Promouvoir le développement économique à long terme et la réduction de la pauvreté en apportant un appui technique et financier pour aider les pays à réformer des secteurs ou à mettre en œuvre des projets spécifiques, comme la construction d'écoles et de centres médicaux, fournir l'eau et l'électricité, lutter contre les maladies et protéger l'environn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assistance de la Banque mondiale est généralement à long terme. Elle est financée par les cotisations des pays et par l'émission d'obligations.</a:t>
            </a:r>
            <a:endParaRPr b="0" i="1" lang="en-US" sz="2400" spc="-1" strike="noStrike">
              <a:solidFill>
                <a:srgbClr val="0f5494"/>
              </a:solidFill>
              <a:latin typeface="Verdana"/>
            </a:endParaRPr>
          </a:p>
        </p:txBody>
      </p:sp>
      <p:sp>
        <p:nvSpPr>
          <p:cNvPr id="163" name="ZoneTexte 1"/>
          <p:cNvSpPr/>
          <p:nvPr/>
        </p:nvSpPr>
        <p:spPr>
          <a:xfrm>
            <a:off x="34920" y="231840"/>
            <a:ext cx="4103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Verdana"/>
              </a:rPr>
              <a:t>Le mandat de la Banque mondial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3" descr=""/>
          <p:cNvPicPr/>
          <p:nvPr/>
        </p:nvPicPr>
        <p:blipFill>
          <a:blip r:embed="rId1"/>
          <a:stretch/>
        </p:blipFill>
        <p:spPr>
          <a:xfrm>
            <a:off x="539640" y="115920"/>
            <a:ext cx="4029120" cy="6751440"/>
          </a:xfrm>
          <a:prstGeom prst="rect">
            <a:avLst/>
          </a:prstGeom>
          <a:ln w="0">
            <a:noFill/>
          </a:ln>
        </p:spPr>
      </p:pic>
      <p:pic>
        <p:nvPicPr>
          <p:cNvPr id="165" name="Picture 4" descr=""/>
          <p:cNvPicPr/>
          <p:nvPr/>
        </p:nvPicPr>
        <p:blipFill>
          <a:blip r:embed="rId2"/>
          <a:stretch/>
        </p:blipFill>
        <p:spPr>
          <a:xfrm>
            <a:off x="4568760" y="115920"/>
            <a:ext cx="3990960" cy="675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L'architecture financière internationale</a:t>
            </a:r>
            <a:endParaRPr b="1" lang="en-US" sz="3000" spc="-1" strike="noStrike">
              <a:solidFill>
                <a:srgbClr val="0f5494"/>
              </a:solidFill>
              <a:latin typeface="Verdana"/>
            </a:endParaRPr>
          </a:p>
        </p:txBody>
      </p:sp>
      <p:sp>
        <p:nvSpPr>
          <p:cNvPr id="102"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nsemble d'accords juridiques, d'institutions et d'autres acteurs (forums, conseils, groupes) visant à faciliter et surveiller les flux internationaux de capitaux.</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émergé à la fin du 19e siècle, lorsque les investissements et le commerce ont connu une énorme croiss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 constamment évolué pour refléter les réalités et s'ajuster aux besoins de la communauté internationale.</a:t>
            </a:r>
            <a:endParaRPr b="0" i="1" lang="en-US" sz="2400" spc="-1" strike="noStrike">
              <a:solidFill>
                <a:srgbClr val="0f5494"/>
              </a:solidFill>
              <a:latin typeface="Verdana"/>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647D-8E00-4702-9C97-E6D3F5F66BD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
          <p:cNvPicPr/>
          <p:nvPr/>
        </p:nvPicPr>
        <p:blipFill>
          <a:blip r:embed="rId1"/>
          <a:stretch/>
        </p:blipFill>
        <p:spPr>
          <a:xfrm>
            <a:off x="900000" y="1379520"/>
            <a:ext cx="7417080" cy="485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1476360" y="1298520"/>
            <a:ext cx="6264360" cy="515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ZoneTexte 1"/>
          <p:cNvSpPr/>
          <p:nvPr/>
        </p:nvSpPr>
        <p:spPr>
          <a:xfrm>
            <a:off x="108000" y="5950080"/>
            <a:ext cx="554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ttp://www.worldbank.org/fr/about/annual-report</a:t>
            </a:r>
            <a:endParaRPr b="0" lang="en-US" sz="1200" spc="-1" strike="noStrike">
              <a:solidFill>
                <a:srgbClr val="0f5494"/>
              </a:solidFill>
              <a:latin typeface="Verdana"/>
            </a:endParaRPr>
          </a:p>
        </p:txBody>
      </p:sp>
      <p:pic>
        <p:nvPicPr>
          <p:cNvPr id="169" name="Picture 4" descr=""/>
          <p:cNvPicPr/>
          <p:nvPr/>
        </p:nvPicPr>
        <p:blipFill>
          <a:blip r:embed="rId1"/>
          <a:stretch/>
        </p:blipFill>
        <p:spPr>
          <a:xfrm>
            <a:off x="1403280" y="1515960"/>
            <a:ext cx="6408720" cy="443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erci </a:t>
            </a:r>
            <a:endParaRPr b="1" lang="en-US" sz="7600" spc="-1" strike="noStrike">
              <a:solidFill>
                <a:srgbClr val="0f5494"/>
              </a:solidFill>
              <a:latin typeface="Verdana"/>
            </a:endParaRPr>
          </a:p>
        </p:txBody>
      </p:sp>
      <p:sp>
        <p:nvSpPr>
          <p:cNvPr id="171"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91E7-E088-468F-95B9-3D1E2F58683F}"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f5494"/>
                </a:solidFill>
                <a:latin typeface="Verdana"/>
              </a:rPr>
              <a:t>L'architecture financière internationale</a:t>
            </a:r>
            <a:endParaRPr b="1" lang="en-US" sz="3000" spc="-1" strike="noStrike">
              <a:solidFill>
                <a:srgbClr val="0f5494"/>
              </a:solidFill>
              <a:latin typeface="Verdana"/>
            </a:endParaRPr>
          </a:p>
        </p:txBody>
      </p:sp>
      <p:sp>
        <p:nvSpPr>
          <p:cNvPr id="105" name=""/>
          <p:cNvSpPr txBox="1"/>
          <p:nvPr/>
        </p:nvSpPr>
        <p:spPr>
          <a:xfrm>
            <a:off x="468360" y="2133360"/>
            <a:ext cx="8229600" cy="4319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principaux acteurs (depuis la 2e Guerre mondiale) sont les institutions dites de Bretton Woods, mais comprennent aussi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a BRI (et le CSF, Comité de Bâl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OCDE (GAFI et autre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banques régionale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G (G10, G20 avec les NAE et AGE y associé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a BC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Les Clubs de Paris et de Londre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autres à l'avenir ?</a:t>
            </a:r>
            <a:endParaRPr b="0" i="1" lang="en-US" sz="2400" spc="-1" strike="noStrike">
              <a:solidFill>
                <a:srgbClr val="0f5494"/>
              </a:solidFill>
              <a:latin typeface="Verdan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8748-6AB2-4F7E-806E-5BBBD291D88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10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Bref historique du système financier mondi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Les institutions de Bretton Wood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 Fonds monétaire international</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a Banque mondiale</a:t>
            </a:r>
            <a:endParaRPr b="0" i="1" lang="en-US" sz="2400" spc="-1" strike="noStrike">
              <a:solidFill>
                <a:srgbClr val="0f5494"/>
              </a:solidFill>
              <a:latin typeface="Verdana"/>
            </a:endParaRPr>
          </a:p>
        </p:txBody>
      </p:sp>
      <p:sp>
        <p:nvSpPr>
          <p:cNvPr id="1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ED65-5A96-40BA-A388-AFC280ECF22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Quels sont les objectifs des institutions de Bretton Woods ?</a:t>
            </a:r>
            <a:endParaRPr b="1" lang="en-US" sz="3000" spc="-1" strike="noStrike">
              <a:solidFill>
                <a:srgbClr val="0f5494"/>
              </a:solidFill>
              <a:latin typeface="Verdana"/>
            </a:endParaRPr>
          </a:p>
        </p:txBody>
      </p:sp>
      <p:sp>
        <p:nvSpPr>
          <p:cNvPr id="111" name=""/>
          <p:cNvSpPr txBox="1"/>
          <p:nvPr/>
        </p:nvSpPr>
        <p:spPr>
          <a:xfrm>
            <a:off x="468360" y="2420640"/>
            <a:ext cx="8229600" cy="4103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Le </a:t>
            </a:r>
            <a:r>
              <a:rPr b="0" lang="en-GB" sz="2200" spc="-1" strike="noStrike" u="sng">
                <a:solidFill>
                  <a:srgbClr val="3333cc"/>
                </a:solidFill>
                <a:uFillTx/>
                <a:latin typeface="Verdana"/>
                <a:hlinkClick r:id="rId1"/>
              </a:rPr>
              <a:t>Fonds monétaire international</a:t>
            </a:r>
            <a:r>
              <a:rPr b="0" lang="en-GB" sz="2200" spc="-1" strike="noStrike">
                <a:solidFill>
                  <a:srgbClr val="0f5494"/>
                </a:solidFill>
                <a:latin typeface="Verdana"/>
              </a:rPr>
              <a:t> et la </a:t>
            </a:r>
            <a:r>
              <a:rPr b="0" lang="en-GB" sz="2200" spc="-1" strike="noStrike" u="sng">
                <a:solidFill>
                  <a:srgbClr val="3333cc"/>
                </a:solidFill>
                <a:uFillTx/>
                <a:latin typeface="Verdana"/>
                <a:hlinkClick r:id="rId2"/>
              </a:rPr>
              <a:t>Banque mondiale</a:t>
            </a:r>
            <a:r>
              <a:rPr b="0" lang="en-GB" sz="2200" spc="-1" strike="noStrike">
                <a:solidFill>
                  <a:srgbClr val="0f5494"/>
                </a:solidFill>
                <a:latin typeface="Verdana"/>
              </a:rPr>
              <a:t> ont été créés lors d'une conférence internationale à Bretton Woods (New Hampshire, États-Unis) en juillet 1944. À noter :</a:t>
            </a: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Le but de la conférence était d'établir un cadre pour la coopération économique et le développement, afin de rendre l'économie mondiale plus stable et plus prospère.</a:t>
            </a: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L'Organisation internationale du Commerce (plus tard appelée le GATT) était supposée être le 3e pilier du cadre, mais le traité n'a été ratifié qu'en 1995 (OMC).</a:t>
            </a: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08000" y="1125360"/>
            <a:ext cx="9036000" cy="5516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es deux institutions ont été créées :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1 - pour éviter les erreurs du passé = des politiques économiques désastreuses qui ont contribué à la Grande Dépression des années 1930 et à la 2e Guerre mondiale</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rotectionnisme </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uerres tarifaire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Dévaluations compétitives</a:t>
            </a:r>
            <a:endParaRPr b="1" lang="en-US" sz="2000" spc="-1" strike="noStrike">
              <a:solidFill>
                <a:srgbClr val="0f5494"/>
              </a:solidFill>
              <a:latin typeface="Verdana"/>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Ces politiques du "chacun pour soi" avaient dévasté l'économie internationale ; le commerce mondial s’était effondré, de même que le taux</a:t>
            </a:r>
            <a:endParaRPr b="1" lang="en-US" sz="1800" spc="-1" strike="noStrike">
              <a:solidFill>
                <a:srgbClr val="0f5494"/>
              </a:solidFill>
              <a:latin typeface="Verdana"/>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d'emploi et le niveau de vie dans de nombreux pays</a:t>
            </a:r>
            <a:r>
              <a:rPr b="0" lang="fr-FR" sz="2400" spc="-1" strike="noStrike">
                <a:solidFill>
                  <a:srgbClr val="0f5494"/>
                </a:solidFill>
                <a:latin typeface="Verdana"/>
              </a:rPr>
              <a:t>. </a:t>
            </a:r>
            <a:endParaRPr b="1" lang="en-US" sz="24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2 - pour restaurer la confiance dans la coopération internationale et dans le système financier international</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33000"/>
            <a:ext cx="3960720" cy="647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Verdana"/>
              </a:rPr>
              <a:t>Rôles du FMI et de la Banque mondiale </a:t>
            </a:r>
            <a:endParaRPr b="1" lang="en-US" sz="1800" spc="-1" strike="noStrike">
              <a:solidFill>
                <a:srgbClr val="0f5494"/>
              </a:solidFill>
              <a:latin typeface="Verdana"/>
            </a:endParaRPr>
          </a:p>
        </p:txBody>
      </p:sp>
      <p:sp>
        <p:nvSpPr>
          <p:cNvPr id="114" name=""/>
          <p:cNvSpPr txBox="1"/>
          <p:nvPr/>
        </p:nvSpPr>
        <p:spPr>
          <a:xfrm>
            <a:off x="457200" y="1483920"/>
            <a:ext cx="8229600" cy="453708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2d5ec1"/>
                </a:solidFill>
                <a:latin typeface="Verdana"/>
              </a:rPr>
              <a:t>	</a:t>
            </a:r>
            <a:r>
              <a:rPr b="1" i="1" lang="fr-FR" sz="2200" spc="-1" strike="noStrike">
                <a:solidFill>
                  <a:srgbClr val="2d5ec1"/>
                </a:solidFill>
                <a:latin typeface="Verdana"/>
              </a:rPr>
              <a:t>FMI</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Promouvoir la stabilité financière mondial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Stabilité des taux de change (croissance équilibrée du commerc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Forum de coopération monétaire international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Assistance financière temporaire aux membres connaissant des difficultés de balance des paiements </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2d5ec1"/>
                </a:solidFill>
                <a:latin typeface="Verdana"/>
              </a:rPr>
              <a:t>	</a:t>
            </a:r>
            <a:r>
              <a:rPr b="1" i="1" lang="fr-FR" sz="2200" spc="-1" strike="noStrike">
                <a:solidFill>
                  <a:srgbClr val="2d5ec1"/>
                </a:solidFill>
                <a:latin typeface="Verdana"/>
              </a:rPr>
              <a:t>Banque mondial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Reconstruction et développement économique après la 2e Guerre mondial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Développement économique à long term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f5494"/>
                </a:solidFill>
                <a:latin typeface="Verdana"/>
              </a:rPr>
              <a:t>Financement de projets, y compris les infrastructures, l'énergie, l'enseignement, la santé</a:t>
            </a: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u cours</a:t>
            </a:r>
            <a:endParaRPr b="1" lang="en-US" sz="3000" spc="-1" strike="noStrike">
              <a:solidFill>
                <a:srgbClr val="0f5494"/>
              </a:solidFill>
              <a:latin typeface="Verdana"/>
            </a:endParaRPr>
          </a:p>
        </p:txBody>
      </p:sp>
      <p:sp>
        <p:nvSpPr>
          <p:cNvPr id="11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D05A-3A9D-4442-B053-474B4795FB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17" name="Rectangle 2"/>
          <p:cNvSpPr/>
          <p:nvPr/>
        </p:nvSpPr>
        <p:spPr>
          <a:xfrm>
            <a:off x="468360" y="2565360"/>
            <a:ext cx="8351640" cy="178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Bref historique du système financier mondial</a:t>
            </a:r>
            <a:endParaRPr b="0"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es institutions de Bretton Woods</a:t>
            </a:r>
            <a:endParaRPr b="0"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Le Fonds monétaire international</a:t>
            </a:r>
            <a:endParaRPr b="0"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La Banque mondiale</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nne Epaulard</cp:lastModifiedBy>
  <cp:lastPrinted>2015-07-21T13:42:57Z</cp:lastPrinted>
  <dcterms:modified xsi:type="dcterms:W3CDTF">2015-09-07T12:43:42Z</dcterms:modified>
  <cp:revision>247</cp:revision>
  <dc:subject/>
  <dc:title>Slide 1</dc:title>
</cp:coreProperties>
</file>